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63E-34DD-42EB-924A-B83E3DB4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BCE-6924-4D56-BC79-017BD8B7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16E-EA38-4496-BF6D-D762236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082-9817-40F7-A2F8-9E814EC2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993-9D9A-490A-A005-EA0470C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DD2-2B46-414D-9456-2A0A0F4B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D91-0978-408B-9BA9-1E2A549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498-A50A-4ED5-B647-D1CB4CD0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14B-2C7C-4458-9B0E-993B58A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A49-84DD-4B9F-9DD1-89C59E7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8F7-08AA-4282-A963-92878C1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216-58C9-4CC3-B9B2-65054A3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3A79-0E8F-4F4B-8A31-107CF289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5027760"/>
            <a:ext cx="2895480" cy="183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5027760"/>
            <a:ext cx="289584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77240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8467560" y="464832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846756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696080" y="464832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4608360"/>
            <a:ext cx="3557520" cy="224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91120" y="4608360"/>
            <a:ext cx="3557520" cy="224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581280" y="3049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781680" y="144792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696080" y="48006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8467560" y="4800600"/>
            <a:ext cx="676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cyc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Michael Bag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5138640"/>
            <a:ext cx="2719440" cy="171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43400" y="4978440"/>
            <a:ext cx="2971800" cy="1879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2895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57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210996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95680" y="18288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952880" y="3808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657600" y="15228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952880" y="274320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7086600" y="457200"/>
            <a:ext cx="2057400" cy="152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 flipV="1">
            <a:off x="8152920" y="3657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3152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5238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28600" y="1905120"/>
            <a:ext cx="2057400" cy="1527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0" y="4648320"/>
            <a:ext cx="175248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52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8305920" y="518148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7620120" y="518148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72388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6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52:27Z</dcterms:created>
  <dc:creator>USD376</dc:creator>
  <dc:description/>
  <dc:language>en-US</dc:language>
  <cp:lastModifiedBy>USD376</cp:lastModifiedBy>
  <dcterms:modified xsi:type="dcterms:W3CDTF">2012-01-05T14:55:27Z</dcterms:modified>
  <cp:revision>5</cp:revision>
  <dc:subject/>
  <dc:title>Slide 1</dc:title>
</cp:coreProperties>
</file>